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C52-99D2-4D33-AE22-CB97B124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557-4CB4-4622-A8FD-87536B68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A43-CB4D-4A5A-BC6B-8D852DCD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81C-6E51-4D48-ADF3-F22CC950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0EF-2058-4F05-AC2A-0E7D5D2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039-3C37-4A2A-8862-CEF0F343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86B-45D2-4C30-8B1D-862679CC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63E-237E-4DFB-8D84-1406D400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508-7C0F-4DB7-9D0A-FB7AE1C7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45F-0561-4D42-B4C6-87A8D71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28D-4CAA-46CF-AF22-E8199EB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E38-402D-42A3-852A-55CD4C2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EAFF-6E1C-44EC-ADA4-E780B513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ography of Ancient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62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5CE-9D24-44B9-AD66-C09B63F71E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Minoa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On Island of Crete (to the S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From 2000-1400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Lived a prosperous life from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Evidence that women shared social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Uncertain how the cause for the end of Minoan Civ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69568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8F1-5E2A-4376-879A-D1096C177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Mycenaea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Lived on Mainland of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From 1600-12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igrated from India, Egypt, and other 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Walled-cities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Enormous wealth from w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plunder &amp; trade–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indoor plum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ost were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6003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1BE-57ED-438C-87E8-2CD5BDF3A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Troj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Happened around 120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Trojan prince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Helen, wife of a Greek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Trojan Ho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(myth or fac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730680" cy="279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51400" y="914400"/>
            <a:ext cx="289260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556-447E-4FAB-9FCC-0EAB2F90B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Dark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o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ligion/ Myt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13E-DBB9-4EE1-B880-FAD35D6AC9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Dorian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ycenaean Society was destroyed by invaders around 120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om 1150-750 B.C., distant relatives known as the Dorians settl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y destroyed trade and lost all writing (causing the term “Dark Age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1B9-F86A-4551-BC0E-D52766C941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Ho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most famous “bard” during the Dark 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BE6-2D43-4D30-ABCB-47A9ADF87D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The Ili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810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0FB-D9E8-4F9C-85D5-1FC3836161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The Odys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F53-CA77-48AF-8375-07C35483EB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Ar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trive for excellence, show courage, and win fame and h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mer used his Epics to portray the Greek ideal of A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040-4907-4206-BFE3-6977F27EBA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The Olympics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mpetition took place in Olympia every four years, beginning in 776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asted 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nners crowned with wreath of oliv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al prize was A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48572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48608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324480" y="4038480"/>
            <a:ext cx="1795680" cy="25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81480" y="388620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B3C-854A-4136-A35F-1B9738263A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Greece is a Peninsula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egean Sea (to the 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Ionian Sea (to the 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Black Sea (to the North-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Mediterranean Sea (to the S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rade was imperative because Greece was not rich in natur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4D7-8B52-43AA-9C05-F77632DB20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FB1-B4D1-4F2E-87B6-5672664A2D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Gods and Godd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y human, with human emotions, but imm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athered at Mount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YTHS – stories about gods intended to explain mysteries of nature and human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ligion was closely linked to government and polis’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CB8-6808-49F5-9DE5-6987776F89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305920" cy="623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DE6-0870-408A-A0D5-2A8B8746B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00"/>
                </a:solidFill>
                <a:uFillTx/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ountains covered 75% of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ount Olympus (highest, home of Greek G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ade for difficult travel, but good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ertile Valleys covered 25% and made for the living areas known as city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t enough fresh-water to feed a large population (only about 2 million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2EA-18A2-45DD-9B9A-C527495E7A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8404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67B-C707-4482-B5A5-8052D7FEF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Th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erate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nly rains 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ed to outdoor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gora (market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Gymna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olitic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articipation in city-states was a DUTY &amp; a VIR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9AF-8F8F-4322-ABDB-0B5F87386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34128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08E-12D7-4FDB-AD9E-EE560F4DD2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30560" y="307800"/>
            <a:ext cx="4681440" cy="624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E55-BBB5-44F0-B7E5-FE06DFDA0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30"/>
                </a:solidFill>
                <a:latin typeface="Arial"/>
              </a:rPr>
              <a:t>         </a:t>
            </a: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The Bronze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Isla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7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ino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Mainla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7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ycenae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7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Troj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3962520" cy="259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72200" y="152280"/>
            <a:ext cx="220968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1447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a 2000 BC- 1400 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60A-7AD7-4302-861F-D0EECB0E9C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0:48:57Z</dcterms:created>
  <dc:creator>Darien Public Schools</dc:creator>
  <dc:description/>
  <dc:language>en-US</dc:language>
  <cp:lastModifiedBy>Darien Public Schools</cp:lastModifiedBy>
  <dcterms:modified xsi:type="dcterms:W3CDTF">2008-09-05T12:30:50Z</dcterms:modified>
  <cp:revision>25</cp:revision>
  <dc:subject/>
  <dc:title>Slide 1</dc:title>
</cp:coreProperties>
</file>